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691813" cy="75565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5880" y="6267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5880" y="2100240"/>
            <a:ext cx="91296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5880" y="4586040"/>
            <a:ext cx="91296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6267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880" y="2100240"/>
            <a:ext cx="44550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64080" y="2100240"/>
            <a:ext cx="44550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5880" y="4586040"/>
            <a:ext cx="44550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464080" y="4586040"/>
            <a:ext cx="44550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5880" y="6267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5880" y="2100240"/>
            <a:ext cx="293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72520" y="2100240"/>
            <a:ext cx="293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59520" y="2100240"/>
            <a:ext cx="293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5880" y="4586040"/>
            <a:ext cx="293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72520" y="4586040"/>
            <a:ext cx="293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959520" y="4586040"/>
            <a:ext cx="29394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5880" y="6267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5880" y="2100240"/>
            <a:ext cx="91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5880" y="6267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5880" y="2100240"/>
            <a:ext cx="91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5880" y="6267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5880" y="2100240"/>
            <a:ext cx="44550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464080" y="2100240"/>
            <a:ext cx="44550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6267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5880" y="626760"/>
            <a:ext cx="9129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5880" y="6267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5880" y="2100240"/>
            <a:ext cx="44550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64080" y="2100240"/>
            <a:ext cx="44550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5880" y="4586040"/>
            <a:ext cx="44550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5880" y="6267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5880" y="2100240"/>
            <a:ext cx="44550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4080" y="2100240"/>
            <a:ext cx="44550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64080" y="4586040"/>
            <a:ext cx="44550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5880" y="6267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5880" y="2100240"/>
            <a:ext cx="44550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4080" y="2100240"/>
            <a:ext cx="44550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5880" y="4586040"/>
            <a:ext cx="912960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62676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5880" y="2100240"/>
            <a:ext cx="91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31560" y="425160"/>
            <a:ext cx="829476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ackground Understanding and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uppression in Very Long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aseline Neutrino Oscillation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eriments with Water Cherenkov Det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785880" y="4007880"/>
            <a:ext cx="9131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686040" y="3565440"/>
            <a:ext cx="348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aki  Yanagis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205160" y="4064040"/>
            <a:ext cx="215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ny Br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13000" y="4921200"/>
            <a:ext cx="472464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lk at NNN05, Aussois,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27400" y="5759280"/>
            <a:ext cx="228600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 7-9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03200" y="1263600"/>
            <a:ext cx="4638600" cy="56386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16480" y="349200"/>
            <a:ext cx="1978200" cy="25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27360" y="17208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-0.5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84760" y="17208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5-1.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27360" y="370188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-1.5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84760" y="370188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5-2.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83720" y="255888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0-2.5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64800" y="255888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5-3.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31080" y="461628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0-3.5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12520" y="46926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5-4.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29800" y="225432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45960" y="263520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917360" y="2406600"/>
            <a:ext cx="609480" cy="4572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612440" y="2940120"/>
            <a:ext cx="7621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03320" y="806400"/>
            <a:ext cx="3657600" cy="344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fraction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73960" y="730080"/>
            <a:ext cx="49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Fake ring has less energy than real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989600" y="1263600"/>
            <a:ext cx="463860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699400" y="196920"/>
            <a:ext cx="1596960" cy="25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08240" y="2863800"/>
            <a:ext cx="1828800" cy="1828800"/>
          </a:xfrm>
          <a:prstGeom prst="ellipse">
            <a:avLst/>
          </a:prstGeom>
          <a:solidFill>
            <a:srgbClr val="00cc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89120" y="2863800"/>
            <a:ext cx="1828800" cy="182880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25680" y="2406600"/>
            <a:ext cx="27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imary electron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13200" y="2863800"/>
            <a:ext cx="121932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94240" y="49975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n undetected 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ring init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289320" y="4463640"/>
            <a:ext cx="533520" cy="60948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32520" y="2863800"/>
            <a:ext cx="1828800" cy="1828800"/>
          </a:xfrm>
          <a:prstGeom prst="ellipse">
            <a:avLst/>
          </a:prstGeom>
          <a:solidFill>
            <a:srgbClr val="00cc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61320" y="4997520"/>
            <a:ext cx="1828800" cy="182880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37440" y="5759280"/>
            <a:ext cx="1523880" cy="30492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137040" y="2787480"/>
            <a:ext cx="1218960" cy="99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4800" y="1125360"/>
            <a:ext cx="89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- One algorithm optimized to find an extra ring near the primary ring (forward reg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57680" y="1568520"/>
            <a:ext cx="837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- Another algorithm optimized to find an extra ring in wider space (wide reg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53360" y="2079720"/>
            <a:ext cx="75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- See the difference ln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-likelihood (forward) - ln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likelihood (w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51040" y="692280"/>
            <a:ext cx="8458200" cy="344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erence between ln of two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likelihood (wide vs. forw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986360" y="1339920"/>
            <a:ext cx="4703760" cy="5715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17520" y="1339920"/>
            <a:ext cx="4713120" cy="57276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016480" y="349200"/>
            <a:ext cx="1978200" cy="25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9640" y="882720"/>
            <a:ext cx="8458200" cy="344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erence between ln of two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likelihood (wide vs. forw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1040" y="17208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-0.5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08440" y="17208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5-1.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1040" y="37782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-1.5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08440" y="37782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5-2.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75680" y="17208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0-2.5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56760" y="17208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5-3.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75680" y="37782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0-3.5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31280" y="37782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5-4.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25200" y="225432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17360" y="255888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60520" y="2482920"/>
            <a:ext cx="228600" cy="3045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41040" y="2787480"/>
            <a:ext cx="2286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002200" y="1263600"/>
            <a:ext cx="4764240" cy="579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17520" y="1263600"/>
            <a:ext cx="4765680" cy="5791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016480" y="349200"/>
            <a:ext cx="1978200" cy="25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27360" y="17208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-0.5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83320" y="17208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5-1.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25920" y="37782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-1.5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08440" y="37782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5-2.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75680" y="17208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0-2.5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33080" y="17208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5-3.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73880" y="37782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0-3.5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33080" y="37782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5-4.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06080" y="225432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02960" y="248292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46320" y="2482920"/>
            <a:ext cx="152280" cy="3045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31920" y="2787480"/>
            <a:ext cx="4572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81800" y="806400"/>
            <a:ext cx="2011680" cy="391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h = cos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 rot="18713400">
            <a:off x="1526400" y="3378600"/>
            <a:ext cx="593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</a:rPr>
              <a:t>Preliminar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965840" y="1415880"/>
            <a:ext cx="4512960" cy="54864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98600" y="1415880"/>
            <a:ext cx="4489200" cy="5456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623080" y="196560"/>
            <a:ext cx="1749240" cy="33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lihood C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5360" y="882720"/>
            <a:ext cx="3590640" cy="344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n likelihood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09880" y="434880"/>
            <a:ext cx="829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ined with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C events for signal,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CC/NC &amp;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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NC for b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03680" y="187308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-0.5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4760" y="187308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5-1.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01880" y="37782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-1.5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83320" y="377820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5-2.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99360" y="187308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0-3.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57840" y="18730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0- 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51200" y="3473280"/>
            <a:ext cx="136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lih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51200" y="5378400"/>
            <a:ext cx="136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lih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96000" y="3473280"/>
            <a:ext cx="136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lih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08600" y="5378400"/>
            <a:ext cx="136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lih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86920" y="3473280"/>
            <a:ext cx="136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lih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68000" y="3473280"/>
            <a:ext cx="136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lih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05480" y="24829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44640" y="2940120"/>
            <a:ext cx="8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49880" y="8064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Difference in ln likelihood between sig and b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65720" y="1076400"/>
            <a:ext cx="23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ln likelihood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8713400">
            <a:off x="3101040" y="3069000"/>
            <a:ext cx="30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Prelimin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46720" y="1568520"/>
            <a:ext cx="4265640" cy="5183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118280" y="5759280"/>
            <a:ext cx="286560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kgs  1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112 from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</a:t>
            </a:r>
            <a:r>
              <a:rPr b="0" lang="en-GB" sz="2000" spc="-1" strike="noStrike" baseline="33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+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  57 from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33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96800" y="1644480"/>
            <a:ext cx="4392720" cy="5107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53080" y="1187280"/>
            <a:ext cx="51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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ln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likelihood cut (100%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ignal retained)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603520" y="4540320"/>
            <a:ext cx="91440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48080" y="3244680"/>
            <a:ext cx="17107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Background from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765440" y="3549600"/>
            <a:ext cx="380880" cy="83808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16840" y="3549600"/>
            <a:ext cx="5677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P+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27760" y="3473280"/>
            <a:ext cx="77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94000" y="5699160"/>
            <a:ext cx="14043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Signal 700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06360" y="5699160"/>
            <a:ext cx="299340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kgs 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1878 from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</a:t>
            </a:r>
            <a:r>
              <a:rPr b="0" lang="en-GB" sz="2000" spc="-1" strike="noStrike" baseline="33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+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  127 from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33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96400" y="43117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29480" y="3930480"/>
            <a:ext cx="1349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699760" y="3835440"/>
            <a:ext cx="77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64800" y="3929040"/>
            <a:ext cx="5677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P+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62840" y="1492200"/>
            <a:ext cx="47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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ln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likelihood cut (~50%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ignal retained)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3080" y="882720"/>
            <a:ext cx="3970080" cy="344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ffect of cut on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n likeli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87720" y="5378400"/>
            <a:ext cx="51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99160" y="5302080"/>
            <a:ext cx="51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78680" y="27716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lim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79280" y="271152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lim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09040" y="246240"/>
            <a:ext cx="2065320" cy="33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nal/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993680" y="43117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05920" y="5759280"/>
            <a:ext cx="14043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Signal 321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31600" y="577800"/>
            <a:ext cx="5190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C for signal ; 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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C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57880" y="164448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TRADITION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632360" y="1263600"/>
            <a:ext cx="22860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930080" y="107316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fter initial c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041800" y="1187280"/>
            <a:ext cx="281952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546120" y="1568520"/>
            <a:ext cx="4265640" cy="51814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5423040" y="1568520"/>
            <a:ext cx="4262400" cy="518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465120" y="1568520"/>
            <a:ext cx="45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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ln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likelihood cut (40%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ignal retained)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060720" y="4464000"/>
            <a:ext cx="91440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48080" y="3092400"/>
            <a:ext cx="17107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Background from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383840" y="3397320"/>
            <a:ext cx="685800" cy="106668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16840" y="3548160"/>
            <a:ext cx="5677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P+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27760" y="3454560"/>
            <a:ext cx="77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4000" y="5835600"/>
            <a:ext cx="14043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Signal 251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06720" y="5835600"/>
            <a:ext cx="286560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kgs   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  74 from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</a:t>
            </a:r>
            <a:r>
              <a:rPr b="0" lang="en-GB" sz="2000" spc="-1" strike="noStrike" baseline="33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+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  44 from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33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96400" y="415908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18280" y="3778200"/>
            <a:ext cx="1349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699760" y="3530520"/>
            <a:ext cx="77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165520" y="3624120"/>
            <a:ext cx="5205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P-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07120" y="1568520"/>
            <a:ext cx="47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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ln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likelihood cut (~40%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ignal retained)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3800" y="1187280"/>
            <a:ext cx="3656160" cy="344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cut 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keli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35080" y="5302080"/>
            <a:ext cx="51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54800" y="5302080"/>
            <a:ext cx="51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78680" y="248292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lim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79280" y="240660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lim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9040" y="246240"/>
            <a:ext cx="2065320" cy="33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nal/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993680" y="4159080"/>
            <a:ext cx="9903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05920" y="5835600"/>
            <a:ext cx="14043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Signal 142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31600" y="822240"/>
            <a:ext cx="5190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C for signal ; 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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C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ackgr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18280" y="5835600"/>
            <a:ext cx="286560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kgs  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  75 from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</a:t>
            </a:r>
            <a:r>
              <a:rPr b="0" lang="en-GB" sz="2000" spc="-1" strike="noStrike" baseline="33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+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  43 from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33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270400" y="1704960"/>
            <a:ext cx="4265640" cy="5183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69800" y="1703520"/>
            <a:ext cx="4265640" cy="51829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079640" y="942840"/>
            <a:ext cx="3504960" cy="344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cut on likeli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03560" y="1704960"/>
            <a:ext cx="47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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ln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likelihood cut (~40%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ignal retained)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908440" y="4600440"/>
            <a:ext cx="91440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19280" y="3379680"/>
            <a:ext cx="17107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Background from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612800" y="3686040"/>
            <a:ext cx="457200" cy="106704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16480" y="3608280"/>
            <a:ext cx="6696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P+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02640" y="3514680"/>
            <a:ext cx="77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48680" y="421956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13360" y="3838680"/>
            <a:ext cx="1349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993680" y="414324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774640" y="3533760"/>
            <a:ext cx="77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165520" y="3684600"/>
            <a:ext cx="6224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P-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91560" y="1704960"/>
            <a:ext cx="46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ln likelihood cut (~40%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ignal retained)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35080" y="5438880"/>
            <a:ext cx="51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483400" y="5499000"/>
            <a:ext cx="51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78680" y="252720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lim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327000" y="25430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lim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85000" y="196920"/>
            <a:ext cx="2065320" cy="33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nal/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4000" y="6064200"/>
            <a:ext cx="14043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Signal 342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06360" y="6064200"/>
            <a:ext cx="292932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kgs   1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   81 from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</a:t>
            </a:r>
            <a:r>
              <a:rPr b="0" lang="en-GB" sz="2000" spc="-1" strike="noStrike" baseline="33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+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   45 from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33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18720" y="6064200"/>
            <a:ext cx="14043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Signal 233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1080" y="6064200"/>
            <a:ext cx="292932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kgs   1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   78 from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</a:t>
            </a:r>
            <a:r>
              <a:rPr b="0" lang="en-GB" sz="2000" spc="-1" strike="noStrike" baseline="33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+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   44 from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33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57200" y="577800"/>
            <a:ext cx="5190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C for signal ; 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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C 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ackgr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 rot="18713400">
            <a:off x="1526040" y="4069800"/>
            <a:ext cx="593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2b2b2"/>
                </a:solidFill>
                <a:latin typeface="Times New Roman"/>
              </a:rPr>
              <a:t>Preliminar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23960" y="1263600"/>
            <a:ext cx="75326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 of BNL superbeam@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77840" y="1817640"/>
            <a:ext cx="87696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mov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70000" y="1881360"/>
            <a:ext cx="9561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93880" y="1881360"/>
            <a:ext cx="69732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k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03920" y="1881360"/>
            <a:ext cx="9561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94640" y="1847880"/>
            <a:ext cx="7095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k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89160" y="1881360"/>
            <a:ext cx="8661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ffi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79640" y="2468520"/>
            <a:ext cx="9903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75040" y="2397240"/>
            <a:ext cx="89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 C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088560" y="1797120"/>
            <a:ext cx="209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99880" y="2397240"/>
            <a:ext cx="204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all, </a:t>
            </a:r>
            <a:r>
              <a:rPr b="0" lang="en-US" sz="23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3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 NC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55840" y="2408400"/>
            <a:ext cx="6483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3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94280" y="2408400"/>
            <a:ext cx="6483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1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75040" y="2971800"/>
            <a:ext cx="89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52920" y="2971800"/>
            <a:ext cx="28260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55840" y="2971800"/>
            <a:ext cx="6483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32360" y="2971800"/>
            <a:ext cx="50220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81520" y="3476520"/>
            <a:ext cx="89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652920" y="3476520"/>
            <a:ext cx="28260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55840" y="3524400"/>
            <a:ext cx="6483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1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480080" y="3524400"/>
            <a:ext cx="6483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81520" y="3979800"/>
            <a:ext cx="89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89520" y="4591080"/>
            <a:ext cx="91440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55840" y="4586400"/>
            <a:ext cx="6483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17960" y="4591080"/>
            <a:ext cx="7214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55840" y="5124600"/>
            <a:ext cx="6483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3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794280" y="5124600"/>
            <a:ext cx="6483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6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55840" y="5657760"/>
            <a:ext cx="6483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94280" y="5657760"/>
            <a:ext cx="6483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4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979560" y="2379240"/>
            <a:ext cx="901548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79560" y="1797120"/>
            <a:ext cx="9015480" cy="4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55600" y="2913120"/>
            <a:ext cx="88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979560" y="3446280"/>
            <a:ext cx="901548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79560" y="3979800"/>
            <a:ext cx="901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27000" y="7359480"/>
            <a:ext cx="9068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03320" y="2914560"/>
            <a:ext cx="99072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i0l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79640" y="4057560"/>
            <a:ext cx="106668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i0-l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55600" y="3448080"/>
            <a:ext cx="99072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o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079640" y="4589640"/>
            <a:ext cx="91440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-l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89520" y="5122800"/>
            <a:ext cx="91440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89520" y="5657760"/>
            <a:ext cx="91440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44640" y="4513320"/>
            <a:ext cx="905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409520" y="1847880"/>
            <a:ext cx="1263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eam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632360" y="2408400"/>
            <a:ext cx="50220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5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94280" y="2940120"/>
            <a:ext cx="6483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17960" y="3524400"/>
            <a:ext cx="7214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5840" y="3979800"/>
            <a:ext cx="6483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17960" y="3981600"/>
            <a:ext cx="7214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1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480080" y="3981600"/>
            <a:ext cx="6483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89520" y="2406600"/>
            <a:ext cx="91440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50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89520" y="2989440"/>
            <a:ext cx="91440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89520" y="3522600"/>
            <a:ext cx="91440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89520" y="3979800"/>
            <a:ext cx="91440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03760" y="4591080"/>
            <a:ext cx="72180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80080" y="5124600"/>
            <a:ext cx="6483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80080" y="5657760"/>
            <a:ext cx="6483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81520" y="4591080"/>
            <a:ext cx="89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470800" y="120600"/>
            <a:ext cx="1227240" cy="331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95320" y="882720"/>
            <a:ext cx="2927520" cy="401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/B and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27000" y="5122800"/>
            <a:ext cx="90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27000" y="5656320"/>
            <a:ext cx="90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927000" y="6189840"/>
            <a:ext cx="90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79720" y="5124600"/>
            <a:ext cx="89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79720" y="5656320"/>
            <a:ext cx="89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075040" y="6267600"/>
            <a:ext cx="89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889520" y="6267600"/>
            <a:ext cx="91440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76480" y="5164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64080" y="565632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0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67480" y="6230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58000" y="6230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96080" y="6216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34160" y="6189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8877240" y="1916280"/>
                <a:ext cx="1082880" cy="41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8853480" y="2406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.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853480" y="2954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853480" y="347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777160" y="402120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853480" y="4589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853480" y="5164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853480" y="5697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853480" y="6230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959280" y="654120"/>
            <a:ext cx="56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Neutrino oscillation was on to define template distrib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For analysis CPV=+45</a:t>
            </a:r>
            <a:r>
              <a:rPr b="0" lang="en-US" sz="1800" spc="-1" strike="noStrike" baseline="30000">
                <a:solidFill>
                  <a:srgbClr val="99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98400" y="349200"/>
            <a:ext cx="1752840" cy="344160"/>
          </a:xfrm>
          <a:prstGeom prst="rect">
            <a:avLst/>
          </a:prstGeom>
          <a:solidFill>
            <a:srgbClr val="00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99880" y="2941560"/>
            <a:ext cx="204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,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NC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99880" y="3475080"/>
            <a:ext cx="204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,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NC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99880" y="4008600"/>
            <a:ext cx="204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,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NC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99880" y="4618080"/>
            <a:ext cx="204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,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NC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99880" y="5151600"/>
            <a:ext cx="204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,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NC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99880" y="5684760"/>
            <a:ext cx="204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,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NC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999880" y="6218280"/>
            <a:ext cx="204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,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NC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52440" y="6827760"/>
            <a:ext cx="204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,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NC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27000" y="6826320"/>
            <a:ext cx="90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01320" y="68263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075040" y="6827760"/>
            <a:ext cx="89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89520" y="6827760"/>
            <a:ext cx="91440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58000" y="6826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96080" y="6826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34160" y="6826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853480" y="6826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165880" y="169560"/>
            <a:ext cx="1603080" cy="39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4440" y="482760"/>
            <a:ext cx="2012760" cy="401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697800" y="4713120"/>
            <a:ext cx="21193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96160" y="4740120"/>
            <a:ext cx="1920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623440" y="6119640"/>
            <a:ext cx="29779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07120" y="4987800"/>
            <a:ext cx="1920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35120" y="1111320"/>
            <a:ext cx="8588520" cy="13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stic MC simulation studies have been performed for the B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long baseline scenario with a water Cherenkov detector. It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hat BNL VLB combined with a UNO type detector seem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O A GREAT JOB – Very exciting news but needs confi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658880" y="2863800"/>
            <a:ext cx="856476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was demonstrated that there is some room to improve S/B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yond the standard water Cherenkov detector software even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ly availabl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94040" y="3930480"/>
            <a:ext cx="8229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e may need further improvement of algorithm/software, wh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s quite possibl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94040" y="4921200"/>
            <a:ext cx="81136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 larger detector such as UNO has an advantage over a sm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etector such as SK (we learned a lesson from 1kt at K2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4040" y="4578480"/>
            <a:ext cx="80643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etailed studies on sensitivity on oscillation parameter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0520" y="247320"/>
            <a:ext cx="1608120" cy="35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LB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74720" y="895320"/>
            <a:ext cx="2438280" cy="344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ing the st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55600" y="4768920"/>
            <a:ext cx="80010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4c4c4c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33000">
                <a:solidFill>
                  <a:srgbClr val="4c4c4c"/>
                </a:solidFill>
                <a:latin typeface="Symbol"/>
                <a:ea typeface="Symbol"/>
              </a:rPr>
              <a:t></a:t>
            </a:r>
            <a:r>
              <a:rPr b="1" lang="en-GB" sz="2400" spc="-1" strike="noStrike">
                <a:solidFill>
                  <a:srgbClr val="4c4c4c"/>
                </a:solidFill>
                <a:latin typeface="Symbol"/>
                <a:ea typeface="Symbol"/>
              </a:rPr>
              <a:t></a:t>
            </a:r>
            <a:r>
              <a:rPr b="1" lang="en-GB" sz="2400" spc="-1" strike="noStrike" baseline="-33000">
                <a:solidFill>
                  <a:srgbClr val="4c4c4c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4c4c4c"/>
                </a:solidFill>
                <a:latin typeface="Times New Roman"/>
              </a:rPr>
              <a:t> and</a:t>
            </a:r>
            <a:r>
              <a:rPr b="1" lang="en-GB" sz="2400" spc="-1" strike="noStrike">
                <a:solidFill>
                  <a:srgbClr val="4c4c4c"/>
                </a:solidFill>
                <a:latin typeface="Symbol"/>
                <a:ea typeface="Symbol"/>
              </a:rPr>
              <a:t></a:t>
            </a:r>
            <a:r>
              <a:rPr b="1" lang="en-GB" sz="2400" spc="-1" strike="noStrike" baseline="-33000">
                <a:solidFill>
                  <a:srgbClr val="4c4c4c"/>
                </a:solidFill>
                <a:latin typeface="Times New Roman"/>
              </a:rPr>
              <a:t>e </a:t>
            </a:r>
            <a:r>
              <a:rPr b="1" lang="en-GB" sz="2400" spc="-1" strike="noStrike">
                <a:solidFill>
                  <a:srgbClr val="4c4c4c"/>
                </a:solidFill>
                <a:latin typeface="Times New Roman"/>
              </a:rPr>
              <a:t>+N </a:t>
            </a:r>
            <a:r>
              <a:rPr b="1" lang="en-GB" sz="2400" spc="-1" strike="noStrike">
                <a:solidFill>
                  <a:srgbClr val="4c4c4c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 baseline="-33000">
                <a:solidFill>
                  <a:srgbClr val="4c4c4c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4c4c4c"/>
                </a:solidFill>
                <a:latin typeface="Times New Roman"/>
              </a:rPr>
              <a:t>e + invisible N' + (invisible n </a:t>
            </a:r>
            <a:r>
              <a:rPr b="1" lang="en-GB" sz="2400" spc="-1" strike="noStrike">
                <a:solidFill>
                  <a:srgbClr val="4c4c4c"/>
                </a:solidFill>
                <a:latin typeface="Symbol"/>
                <a:ea typeface="Symbol"/>
              </a:rPr>
              <a:t></a:t>
            </a:r>
            <a:r>
              <a:rPr b="1" lang="en-GB" sz="2400" spc="-1" strike="noStrike" baseline="30000">
                <a:solidFill>
                  <a:srgbClr val="4c4c4c"/>
                </a:solidFill>
                <a:latin typeface="Symbol"/>
                <a:ea typeface="Symbol"/>
              </a:rPr>
              <a:t></a:t>
            </a:r>
            <a:r>
              <a:rPr b="1" lang="en-GB" sz="2400" spc="-1" strike="noStrike">
                <a:solidFill>
                  <a:srgbClr val="4c4c4c"/>
                </a:solidFill>
                <a:latin typeface="Times New Roman"/>
              </a:rPr>
              <a:t>s, n</a:t>
            </a:r>
            <a:r>
              <a:rPr b="1" lang="en-GB" sz="2400" spc="-1" strike="noStrike">
                <a:solidFill>
                  <a:srgbClr val="4c4c4c"/>
                </a:solidFill>
                <a:latin typeface="Symbol"/>
                <a:ea typeface="Symbol"/>
              </a:rPr>
              <a:t></a:t>
            </a:r>
            <a:r>
              <a:rPr b="1" lang="en-GB" sz="2400" spc="-1" strike="noStrike">
                <a:solidFill>
                  <a:srgbClr val="4c4c4c"/>
                </a:solidFill>
                <a:latin typeface="Times New Roman"/>
              </a:rPr>
              <a:t>0) </a:t>
            </a:r>
            <a:r>
              <a:rPr b="1" lang="en-GB" sz="2400" spc="-1" strike="noStrike">
                <a:solidFill>
                  <a:srgbClr val="4c4c4c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61080" y="6330960"/>
            <a:ext cx="7101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Symbol"/>
                <a:ea typeface="Symbol"/>
              </a:rPr>
              <a:t>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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Symbol"/>
                <a:ea typeface="Symbol"/>
              </a:rPr>
              <a:t></a:t>
            </a:r>
            <a:r>
              <a:rPr b="0" lang="en-GB" sz="2400" spc="-1" strike="noStrike" baseline="-33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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</a:t>
            </a:r>
            <a:r>
              <a:rPr b="0" lang="en-GB" sz="24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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visible n </a:t>
            </a:r>
            <a:r>
              <a:rPr b="1" lang="en-GB" sz="2400" spc="-1" strike="noStrike">
                <a:solidFill>
                  <a:srgbClr val="4c4c4c"/>
                </a:solidFill>
                <a:latin typeface="Symbol"/>
                <a:ea typeface="Symbol"/>
              </a:rPr>
              <a:t></a:t>
            </a:r>
            <a:r>
              <a:rPr b="1" lang="en-GB" sz="2400" spc="-1" strike="noStrike" baseline="30000">
                <a:solidFill>
                  <a:srgbClr val="4c4c4c"/>
                </a:solidFill>
                <a:latin typeface="Symbol"/>
                <a:ea typeface="Symbol"/>
              </a:rPr>
              <a:t>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, n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9120" y="5264280"/>
            <a:ext cx="423144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c4c4c"/>
                </a:solidFill>
                <a:latin typeface="Times New Roman"/>
              </a:rPr>
              <a:t>Look for single electro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52720" y="5797440"/>
            <a:ext cx="272880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c4c4c"/>
                </a:solidFill>
                <a:latin typeface="Times New Roman"/>
              </a:rPr>
              <a:t>Major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12800" y="6737400"/>
            <a:ext cx="541836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8000"/>
              </a:lnSpc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US" sz="2400" spc="-1" strike="noStrike" baseline="-33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mination in beam (typically 0.7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975120" y="5073120"/>
            <a:ext cx="0" cy="304920"/>
          </a:xfrm>
          <a:prstGeom prst="line">
            <a:avLst/>
          </a:prstGeom>
          <a:ln w="50760">
            <a:solidFill>
              <a:srgbClr val="8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889520" y="598752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89520" y="59878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70120" y="57182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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4720" y="4006800"/>
            <a:ext cx="4952880" cy="391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do we find the signal for </a:t>
            </a:r>
            <a:r>
              <a:rPr b="1" lang="en-GB" sz="2400" spc="-1" strike="noStrike">
                <a:solidFill>
                  <a:srgbClr val="4c4c4c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25000">
                <a:solidFill>
                  <a:srgbClr val="4c4c4c"/>
                </a:solidFill>
                <a:latin typeface="Symbol"/>
                <a:ea typeface="Symbol"/>
              </a:rPr>
              <a:t></a:t>
            </a:r>
            <a:r>
              <a:rPr b="1" lang="en-GB" sz="2400" spc="-1" strike="noStrike">
                <a:solidFill>
                  <a:srgbClr val="4c4c4c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4c4c4c"/>
                </a:solidFill>
                <a:latin typeface="Times New Roman"/>
              </a:rPr>
              <a:t> v</a:t>
            </a:r>
            <a:r>
              <a:rPr b="1" lang="en-GB" sz="2400" spc="-1" strike="noStrike" baseline="-25000">
                <a:solidFill>
                  <a:srgbClr val="4c4c4c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7320" y="1492200"/>
            <a:ext cx="89863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4c4c4c"/>
                </a:solidFill>
                <a:latin typeface="Times New Roman"/>
              </a:rPr>
              <a:t>~ a half megaton F.V. water Cherenkov detector, for example 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50920" y="2025720"/>
            <a:ext cx="5347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c4c4c"/>
                </a:solidFill>
                <a:latin typeface="Times New Roman"/>
              </a:rPr>
              <a:t>BNL very long baseline neutrino b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51040" y="2711520"/>
            <a:ext cx="838080" cy="0"/>
          </a:xfrm>
          <a:prstGeom prst="line">
            <a:avLst/>
          </a:prstGeom>
          <a:ln w="63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8040" y="2940120"/>
            <a:ext cx="50194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10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c4c4c"/>
                </a:solidFill>
                <a:latin typeface="Times New Roman"/>
              </a:rPr>
              <a:t>VLB neutrino oscillation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76920" y="3473280"/>
            <a:ext cx="645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, for example, PRD68 (2003) 12002 for physics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6600" y="272880"/>
            <a:ext cx="5883120" cy="401040"/>
          </a:xfrm>
          <a:prstGeom prst="rect">
            <a:avLst/>
          </a:prstGeom>
          <a:solidFill>
            <a:srgbClr val="00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long baseline neutrino oscil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1040" y="1568520"/>
            <a:ext cx="152280" cy="76176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18800" y="1111320"/>
            <a:ext cx="6807960" cy="344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utrino spectra of on- and off-axis BNL Superb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51240" y="2101680"/>
            <a:ext cx="5056200" cy="4759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>
            <a:off x="3898800" y="28638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6480" y="257328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axis 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4760" y="4006800"/>
            <a:ext cx="1066680" cy="6094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91440" y="3549600"/>
            <a:ext cx="19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808080"/>
                </a:solidFill>
                <a:latin typeface="Times New Roman"/>
              </a:rPr>
              <a:t> o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off-axis 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41480" y="6750000"/>
            <a:ext cx="25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energy (G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318320" y="4309560"/>
            <a:ext cx="194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/GeV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P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1644480"/>
            <a:ext cx="622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D68 (2003) 12002; private communication w/ M.Di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699400" y="349200"/>
            <a:ext cx="1676520" cy="35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LB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0520" y="247320"/>
            <a:ext cx="1608120" cy="35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LB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2560" y="895320"/>
            <a:ext cx="2984400" cy="344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s analysis do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38040" y="1339920"/>
            <a:ext cx="50011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c4c4c"/>
                </a:solidFill>
                <a:latin typeface="Times New Roman"/>
              </a:rPr>
              <a:t>Use of SK atmospheric neutrino 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9280" y="2101680"/>
            <a:ext cx="82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latten SK atm.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spectra and  reweight with BNL beam spect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22720" y="2558880"/>
            <a:ext cx="9057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Normalize with QE events: 12,000 events for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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vents for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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or 0.5 Mt F.V. with 5 years of running, 2,540 km base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04440" y="3930480"/>
            <a:ext cx="739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eweight with oscillation probabilities for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nd for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39720" y="1650960"/>
            <a:ext cx="43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tandard SK analysis package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12800" y="4997520"/>
            <a:ext cx="56674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Clr>
                <a:srgbClr val="0000cc"/>
              </a:buClr>
              <a:buSzPct val="9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33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 baseline="-33000">
                <a:solidFill>
                  <a:srgbClr val="3333cc"/>
                </a:solidFill>
                <a:latin typeface="Times New Roman"/>
              </a:rPr>
              <a:t>21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=7.3 x 10</a:t>
            </a:r>
            <a:r>
              <a:rPr b="1" lang="en-US" sz="2400" spc="-1" strike="noStrike" baseline="33000">
                <a:solidFill>
                  <a:srgbClr val="3333cc"/>
                </a:solidFill>
                <a:latin typeface="Times New Roman"/>
              </a:rPr>
              <a:t>- 5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V</a:t>
            </a:r>
            <a:r>
              <a:rPr b="1" lang="en-US" sz="2400" spc="-1" strike="noStrike" baseline="33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400" spc="-1" strike="noStrike" baseline="33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 baseline="-33000">
                <a:solidFill>
                  <a:srgbClr val="3333cc"/>
                </a:solidFill>
                <a:latin typeface="Times New Roman"/>
              </a:rPr>
              <a:t>31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=2.5 x 10</a:t>
            </a:r>
            <a:r>
              <a:rPr b="1" lang="en-US" sz="2400" spc="-1" strike="noStrike" baseline="33000">
                <a:solidFill>
                  <a:srgbClr val="3333cc"/>
                </a:solidFill>
                <a:latin typeface="Times New Roman"/>
              </a:rPr>
              <a:t>- 3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V</a:t>
            </a:r>
            <a:r>
              <a:rPr b="1" lang="en-US" sz="2400" spc="-1" strike="noStrike" baseline="33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12800" y="5454720"/>
            <a:ext cx="7620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sin</a:t>
            </a:r>
            <a:r>
              <a:rPr b="1" lang="en-GB" sz="2400" spc="-1" strike="noStrike" baseline="33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n-GB" sz="2400" spc="-1" strike="noStrike" baseline="-33000">
                <a:solidFill>
                  <a:srgbClr val="3333cc"/>
                </a:solidFill>
                <a:latin typeface="Times New Roman"/>
              </a:rPr>
              <a:t>ij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(12,23,13)=0.86/1.0/0.04, </a:t>
            </a:r>
            <a:r>
              <a:rPr b="1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1" lang="en-GB" sz="2400" spc="-1" strike="noStrike" baseline="-33000">
                <a:solidFill>
                  <a:srgbClr val="3333cc"/>
                </a:solidFill>
                <a:latin typeface="Times New Roman"/>
              </a:rPr>
              <a:t>CP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=0,+45,+135,-45,-135</a:t>
            </a:r>
            <a:r>
              <a:rPr b="1" lang="en-GB" sz="2400" spc="-1" strike="noStrike" baseline="33000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9040" y="6006960"/>
            <a:ext cx="44172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imes New Roman"/>
              </a:rPr>
              <a:t>Probability tables from Brett Viren of BN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6640" y="4464000"/>
            <a:ext cx="39967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c4c4c"/>
                </a:solidFill>
                <a:latin typeface="Times New Roman"/>
              </a:rPr>
              <a:t>Oscillation parameter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74120" y="3473280"/>
            <a:ext cx="36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distance from BNL to Homes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480440" y="3244320"/>
            <a:ext cx="0" cy="22860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84200" y="1644480"/>
            <a:ext cx="23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ecial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find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0520" y="247320"/>
            <a:ext cx="1608120" cy="35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LB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4720" y="895320"/>
            <a:ext cx="4419720" cy="344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criteria used to im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4006800"/>
            <a:ext cx="731520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c4c4c"/>
                </a:solidFill>
                <a:latin typeface="Times New Roman"/>
              </a:rPr>
              <a:t>Likelihood analysis using the following eight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1720800"/>
            <a:ext cx="182880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c4c4c"/>
                </a:solidFill>
                <a:latin typeface="Times New Roman"/>
              </a:rPr>
              <a:t>Initial cu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6240" y="2057400"/>
            <a:ext cx="851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One and only one electron-like ring with energy and reconstru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neutrino energy more than 100 MeV without any decay elec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58480" y="4540320"/>
            <a:ext cx="77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ergy fraction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sth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likelihood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, e-likeli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27240" y="5149800"/>
            <a:ext cx="80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</a:t>
            </a:r>
            <a:r>
              <a:rPr b="0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likelihood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, total charge/electron energy, Cherenkov ang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937640" y="2787120"/>
            <a:ext cx="0" cy="30492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41000" y="3016080"/>
            <a:ext cx="40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o reduce events with in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harged p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01360" y="164448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raditional SK cut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70920" y="39304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th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778600" y="272880"/>
            <a:ext cx="1444680" cy="25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LB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74720" y="2254320"/>
            <a:ext cx="4487760" cy="446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575320" y="2254320"/>
            <a:ext cx="4495680" cy="4470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2440" y="28638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QE events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before likelihood 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32760" y="28638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All CC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before likelihood 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78600" y="6257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47480" y="62164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85520" y="2254320"/>
            <a:ext cx="239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econstructed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9800" y="2254320"/>
            <a:ext cx="239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econstructed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03520" y="37782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03520" y="41590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66240" y="41590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166240" y="3778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85840" y="3549600"/>
            <a:ext cx="4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00840" y="3549600"/>
            <a:ext cx="4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09520" y="393048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00480" y="393048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63680" y="6826320"/>
            <a:ext cx="66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l CC events that survive the initial cuts are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42040" y="730080"/>
            <a:ext cx="6289920" cy="344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3"/>
              </a:buBlip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are sources of the signal (QE and nonQE) 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28840" y="1415880"/>
            <a:ext cx="55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ly single e-like events left after initial c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99000" y="3930480"/>
            <a:ext cx="3048120" cy="3043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778960" y="425520"/>
            <a:ext cx="1139760" cy="25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fi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17000" y="808200"/>
            <a:ext cx="1385640" cy="344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2"/>
              </a:buBlip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3440" y="1353960"/>
            <a:ext cx="752184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c4c4c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3000">
                <a:solidFill>
                  <a:srgbClr val="4c4c4c"/>
                </a:solidFill>
                <a:latin typeface="Symbol"/>
                <a:ea typeface="Symbol"/>
              </a:rPr>
              <a:t></a:t>
            </a:r>
            <a:r>
              <a:rPr b="1" lang="en-US" sz="2400" spc="-1" strike="noStrike">
                <a:solidFill>
                  <a:srgbClr val="4c4c4c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4c4c4c"/>
                </a:solidFill>
                <a:latin typeface="Times New Roman"/>
              </a:rPr>
              <a:t>reconstruction efficiency with standard SK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0440" y="4032360"/>
            <a:ext cx="2989080" cy="289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71040" y="1954080"/>
            <a:ext cx="69627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c4c4c"/>
                </a:solidFill>
                <a:latin typeface="Times New Roman"/>
              </a:rPr>
              <a:t>measured opening angle vs.  </a:t>
            </a:r>
            <a:r>
              <a:rPr b="1" lang="en-US" sz="2400" spc="-1" strike="noStrike">
                <a:solidFill>
                  <a:srgbClr val="4c4c4c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3000">
                <a:solidFill>
                  <a:srgbClr val="4c4c4c"/>
                </a:solidFill>
                <a:latin typeface="Symbol"/>
                <a:ea typeface="Symbol"/>
              </a:rPr>
              <a:t></a:t>
            </a:r>
            <a:r>
              <a:rPr b="1" lang="en-US" sz="2400" spc="-1" strike="noStrike">
                <a:solidFill>
                  <a:srgbClr val="4c4c4c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4c4c4c"/>
                </a:solidFill>
                <a:latin typeface="Times New Roman"/>
              </a:rPr>
              <a:t>mass with </a:t>
            </a:r>
            <a:r>
              <a:rPr b="1" lang="en-US" sz="2400" spc="-1" strike="noStrike">
                <a:solidFill>
                  <a:srgbClr val="4c4c4c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3000">
                <a:solidFill>
                  <a:srgbClr val="4c4c4c"/>
                </a:solidFill>
                <a:latin typeface="Symbol"/>
                <a:ea typeface="Symbol"/>
              </a:rPr>
              <a:t></a:t>
            </a:r>
            <a:r>
              <a:rPr b="1" lang="en-US" sz="2400" spc="-1" strike="noStrike">
                <a:solidFill>
                  <a:srgbClr val="4c4c4c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4c4c4c"/>
                </a:solidFill>
                <a:latin typeface="Times New Roman"/>
              </a:rPr>
              <a:t>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8547120" y="5149800"/>
            <a:ext cx="946080" cy="1800"/>
          </a:xfrm>
          <a:prstGeom prst="line">
            <a:avLst/>
          </a:prstGeom>
          <a:ln w="3600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/>
          <p:nvPr/>
        </p:nvCxnSpPr>
        <p:spPr>
          <a:xfrm flipV="1" rot="16200000">
            <a:off x="7174800" y="2863080"/>
            <a:ext cx="3506040" cy="1067400"/>
          </a:xfrm>
          <a:prstGeom prst="bentConnector3">
            <a:avLst>
              <a:gd name="adj1" fmla="val 99763"/>
            </a:avLst>
          </a:prstGeom>
          <a:ln w="36000">
            <a:solidFill>
              <a:srgbClr val="8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750960" y="2136600"/>
            <a:ext cx="770040" cy="2984760"/>
          </a:xfrm>
          <a:custGeom>
            <a:avLst/>
            <a:gdLst/>
            <a:ahLst/>
            <a:rect l="l" t="t" r="r" b="b"/>
            <a:pathLst>
              <a:path w="2140" h="8290">
                <a:moveTo>
                  <a:pt x="2139" y="0"/>
                </a:moveTo>
                <a:lnTo>
                  <a:pt x="0" y="0"/>
                </a:lnTo>
                <a:lnTo>
                  <a:pt x="27" y="8289"/>
                </a:lnTo>
              </a:path>
            </a:pathLst>
          </a:cu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0960" y="5110200"/>
            <a:ext cx="635040" cy="1440"/>
          </a:xfrm>
          <a:prstGeom prst="line">
            <a:avLst/>
          </a:prstGeom>
          <a:ln w="3600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83920" y="6680160"/>
            <a:ext cx="109476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en-US" sz="1600" spc="-1" strike="noStrike" baseline="-33000">
                <a:solidFill>
                  <a:srgbClr val="0000ff"/>
                </a:solidFill>
                <a:latin typeface="Symbol"/>
                <a:ea typeface="Symbol"/>
              </a:rPr>
              <a:t>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(MeV/c</a:t>
            </a:r>
            <a:r>
              <a:rPr b="0" lang="en-US" sz="1600" spc="-1" strike="noStrike" baseline="33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1000" y="6750000"/>
            <a:ext cx="19926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true opening angle (de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60000">
            <a:off x="4944960" y="5454000"/>
            <a:ext cx="9367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228600" y="5094000"/>
            <a:ext cx="24544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opening angle  measured(de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0640" y="3625920"/>
            <a:ext cx="3170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Single e-like events from single </a:t>
            </a:r>
            <a:r>
              <a:rPr b="0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3000">
                <a:solidFill>
                  <a:srgbClr val="800000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39280" y="3701880"/>
            <a:ext cx="2067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Times New Roman"/>
              </a:rPr>
              <a:t>All single </a:t>
            </a:r>
            <a:r>
              <a:rPr b="0" lang="en-GB" sz="16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 baseline="33000">
                <a:solidFill>
                  <a:srgbClr val="800000"/>
                </a:solidFill>
                <a:latin typeface="Symbol"/>
                <a:ea typeface="Symbol"/>
              </a:rPr>
              <a:t></a:t>
            </a:r>
            <a:r>
              <a:rPr b="0" lang="en-GB" sz="1600" spc="-1" strike="noStrike">
                <a:solidFill>
                  <a:srgbClr val="800000"/>
                </a:solidFill>
                <a:latin typeface="Symbol"/>
                <a:ea typeface="Symbol"/>
              </a:rPr>
              <a:t></a:t>
            </a:r>
            <a:r>
              <a:rPr b="0" lang="en-GB" sz="1600" spc="-1" strike="noStrike">
                <a:solidFill>
                  <a:srgbClr val="800000"/>
                </a:solidFill>
                <a:latin typeface="Times New Roman"/>
              </a:rPr>
              <a:t>inter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Times New Roman"/>
              </a:rPr>
              <a:t>SK atm. neutrino spec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9640" y="806400"/>
            <a:ext cx="63604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Always looks for an extra ring in a single ring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6200" y="3625920"/>
            <a:ext cx="0" cy="1676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13600" y="3625920"/>
            <a:ext cx="0" cy="1676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77080" y="2940120"/>
            <a:ext cx="164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ue to over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35320" y="2940120"/>
            <a:ext cx="209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efficiency du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eak 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2440" y="196920"/>
            <a:ext cx="1752480" cy="401040"/>
          </a:xfrm>
          <a:prstGeom prst="rect">
            <a:avLst/>
          </a:prstGeom>
          <a:solidFill>
            <a:srgbClr val="00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17720" y="1873080"/>
            <a:ext cx="4716360" cy="4759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16640" y="808200"/>
            <a:ext cx="3702240" cy="344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2"/>
              </a:buBlip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3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38640" y="1339920"/>
            <a:ext cx="78591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4c4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c4c4c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3000">
                <a:solidFill>
                  <a:srgbClr val="4c4c4c"/>
                </a:solidFill>
                <a:latin typeface="Symbol"/>
                <a:ea typeface="Symbol"/>
              </a:rPr>
              <a:t></a:t>
            </a:r>
            <a:r>
              <a:rPr b="1" lang="en-US" sz="2400" spc="-1" strike="noStrike">
                <a:solidFill>
                  <a:srgbClr val="4c4c4c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4c4c4c"/>
                </a:solidFill>
                <a:latin typeface="Times New Roman"/>
              </a:rPr>
              <a:t>reconstruction efficiency with standard SK + </a:t>
            </a:r>
            <a:r>
              <a:rPr b="1" lang="en-US" sz="2400" spc="-1" strike="noStrike">
                <a:solidFill>
                  <a:srgbClr val="4c4c4c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3000">
                <a:solidFill>
                  <a:srgbClr val="4c4c4c"/>
                </a:solidFill>
                <a:latin typeface="Symbol"/>
                <a:ea typeface="Symbol"/>
              </a:rPr>
              <a:t></a:t>
            </a:r>
            <a:r>
              <a:rPr b="1" lang="en-US" sz="2400" spc="-1" strike="noStrike">
                <a:solidFill>
                  <a:srgbClr val="4c4c4c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4c4c4c"/>
                </a:solidFill>
                <a:latin typeface="Times New Roman"/>
              </a:rPr>
              <a:t>fin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4720" y="1492200"/>
            <a:ext cx="770040" cy="2984400"/>
          </a:xfrm>
          <a:custGeom>
            <a:avLst/>
            <a:gdLst/>
            <a:ahLst/>
            <a:rect l="l" t="t" r="r" b="b"/>
            <a:pathLst>
              <a:path w="2140" h="8290">
                <a:moveTo>
                  <a:pt x="2139" y="0"/>
                </a:moveTo>
                <a:lnTo>
                  <a:pt x="0" y="0"/>
                </a:lnTo>
                <a:lnTo>
                  <a:pt x="27" y="8289"/>
                </a:lnTo>
              </a:path>
            </a:pathLst>
          </a:custGeom>
          <a:noFill/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74720" y="4464000"/>
            <a:ext cx="635040" cy="1800"/>
          </a:xfrm>
          <a:prstGeom prst="line">
            <a:avLst/>
          </a:prstGeom>
          <a:ln w="3600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60000">
            <a:off x="1149120" y="4013280"/>
            <a:ext cx="1062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2025720"/>
            <a:ext cx="16833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All the single </a:t>
            </a:r>
            <a:r>
              <a:rPr b="0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 baseline="33000">
                <a:solidFill>
                  <a:srgbClr val="800000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54600" y="667368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True opening angle (d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660560" y="3168720"/>
            <a:ext cx="6094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670200" y="4387320"/>
            <a:ext cx="381240" cy="7621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570520" y="247320"/>
            <a:ext cx="1608120" cy="35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32320" y="3397320"/>
            <a:ext cx="34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660066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mass cut:1- and 2-ring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5920" y="545472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660066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660066"/>
                </a:solidFill>
                <a:latin typeface="Times New Roman"/>
              </a:rPr>
              <a:t> mass cut:2-ring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52840" y="4006800"/>
            <a:ext cx="369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With atmospheric neutrino spec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61120" y="3016080"/>
            <a:ext cx="36576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74360" y="2863800"/>
            <a:ext cx="1622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08440" y="5226120"/>
            <a:ext cx="2743200" cy="685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11320" y="4997520"/>
            <a:ext cx="1948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without </a:t>
            </a:r>
            <a:r>
              <a:rPr b="0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80808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fin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32720" y="2635200"/>
            <a:ext cx="0" cy="83808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55960" y="2060640"/>
            <a:ext cx="18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with </a:t>
            </a:r>
            <a:r>
              <a:rPr b="0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660066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18520" y="2635200"/>
            <a:ext cx="0" cy="83808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18520" y="2635200"/>
            <a:ext cx="22860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480160" y="23302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w/o </a:t>
            </a:r>
            <a:r>
              <a:rPr b="0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660066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048280" y="1415880"/>
            <a:ext cx="4641840" cy="5639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760" y="1415880"/>
            <a:ext cx="4640040" cy="5639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6480" y="349200"/>
            <a:ext cx="1978200" cy="25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27360" y="179712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-0.5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84760" y="179712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5-1.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27360" y="385452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0-1.5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84760" y="385452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5-2.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75680" y="179712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0-2.5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1280" y="179712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5-3.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75680" y="385452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0-3.5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31280" y="385452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5-4.0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25240" y="255888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88760" y="286380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307880" y="2787480"/>
            <a:ext cx="685800" cy="15264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155240" y="3092400"/>
            <a:ext cx="7621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03320" y="1035000"/>
            <a:ext cx="1219320" cy="344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9800" y="615960"/>
            <a:ext cx="2514600" cy="344160"/>
          </a:xfrm>
          <a:prstGeom prst="rect">
            <a:avLst/>
          </a:prstGeom>
          <a:solidFill>
            <a:srgbClr val="00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Vari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42640" y="501480"/>
            <a:ext cx="715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ll the distributions of useful variables are obta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neutrino oscillation “on” with CPV phase angle +45</a:t>
            </a:r>
            <a:r>
              <a:rPr b="0" lang="en-US" sz="2400" spc="-1" strike="noStrike" baseline="30000">
                <a:solidFill>
                  <a:srgbClr val="99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84200" y="5607000"/>
            <a:ext cx="83844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84200" y="3549600"/>
            <a:ext cx="83844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5640" y="354960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41600" y="5607000"/>
            <a:ext cx="83844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32520" y="359568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08840" y="560700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13600" y="3625920"/>
            <a:ext cx="83844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89920" y="5607000"/>
            <a:ext cx="838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5-04-08T13:36:16Z</dcterms:modified>
  <cp:revision>495</cp:revision>
  <dc:subject/>
  <dc:title>Water Cherenkov Capabilities</dc:title>
</cp:coreProperties>
</file>